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68321-432A-4557-BA24-C0DC5546D4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7BE04-40EE-42AD-8B0F-2A898394B8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B8C12-2A8B-4E15-8F71-CB7A414E65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82942-0A34-4B96-A153-6C95106C8F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C10298-4B9B-4CCA-9BAD-3F2019CF4CC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B70180-2726-4E8E-B976-618F939BDCE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2B289A-588A-46C2-A2FB-E3CB87CE53E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5D88EC-50BC-4AC2-BB53-0F8327C606F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7060B6-485B-423D-A3E2-99FA18EBB77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1E0FFA-5582-400F-9B90-CCCE2C6F1C7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B9FCB8-E6AB-46F5-A6A9-DA3CAC81BB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E5E07-FF24-421F-A80D-25ADB31A15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84B70E-2488-4D41-9223-B6CEBBA0709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2A2A10-A8CB-40B2-BAD4-96850781AE5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6087F2-2C09-4392-9861-D1EFE572862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0E7ED3-A509-4801-9CA0-A87910226F5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15BC25-C00E-4796-889B-3FE7D798C6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B9044-7351-4C46-9C54-2FBA780BC5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8C212-8F58-4BDD-917D-FB60F1964E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9C25C-FF58-4E79-978F-9DE0D39097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93D13-E117-4070-8ED3-B5A7A3EC6E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9E5A1-5276-4591-A4F3-621ACBC49B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123EB-44FC-4269-B506-A0DA15122D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45AFA-43C9-4DD0-B4EE-FAC9125369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12AD226B-FE0F-43F8-8FF6-65904CEA2282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61A9B608-5311-4548-BB80-FEE6D9F07BCB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82CCB6E9-166D-4E1A-A6ED-DE085CBFE9F0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44D4340B-A6EB-4E2E-B819-F91FB0744319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3716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olychoric_correlation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polychoric" TargetMode="External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a044b"/>
                </a:solidFill>
                <a:latin typeface="Verdana"/>
              </a:rPr>
              <a:t>9. Latent variable models 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and all tha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mvFAQ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More usual: Underlying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constru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(default mode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l scores related to all unsee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l other models need to be explic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Exploratory Attention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1371600" y="2362320"/>
            <a:ext cx="167652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2438280"/>
            <a:ext cx="152388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666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2670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238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43000" y="4952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19520" y="4952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67080" y="4952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4876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162920" y="4876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1371240" y="3276720"/>
            <a:ext cx="2286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05120" y="3352680"/>
            <a:ext cx="106668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19520" y="3276720"/>
            <a:ext cx="16761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124080"/>
            <a:ext cx="365760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8120" y="3048120"/>
            <a:ext cx="487656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1828800" y="2895480"/>
            <a:ext cx="327672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3276720" y="3124080"/>
            <a:ext cx="1828800" cy="1676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724280" y="3352680"/>
            <a:ext cx="5335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867280" y="3429000"/>
            <a:ext cx="53352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53080" y="3200400"/>
            <a:ext cx="11430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2514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ED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2590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152388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2004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48006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64771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78487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66880" y="58672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it unaccounted for (residual)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76920" y="15238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Degree of relationship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uilding Bloc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observed phenomena (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ir manifestations (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variables manifest which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Factor correlations present/ab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eens and Unsee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, e.g. scores, using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unsee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= Effect of Factor ‘A’ + Effect of Factor ‘B’ + … +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score variation (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-residual) 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mun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ant to see high communalities (see Field, 200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ying Factor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: score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A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A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B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B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andom score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coefficients are “loadings”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; </a:t>
            </a:r>
            <a:r>
              <a:rPr b="1" lang="en-GB" sz="2000" spc="-1" strike="noStrike">
                <a:solidFill>
                  <a:srgbClr val="f02e1a"/>
                </a:solidFill>
                <a:latin typeface="Verdana"/>
              </a:rPr>
              <a:t>Loading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3547ed"/>
                </a:solidFill>
                <a:latin typeface="Verdana"/>
              </a:rPr>
              <a:t>Residu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533520" y="1676520"/>
          <a:ext cx="77706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77706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3276720" y="1828800"/>
            <a:ext cx="2438280" cy="1371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9880" y="2209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35812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14400" y="25909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23880" y="457200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438280" y="533412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486400" y="46483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114800" y="5410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324480" y="38098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86600" y="28195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0" y="1981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2209680" y="2362320"/>
            <a:ext cx="9144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2514600" y="3048120"/>
            <a:ext cx="9144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2742840" y="3276720"/>
            <a:ext cx="114300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352320" y="3276720"/>
            <a:ext cx="83844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48320" y="3352680"/>
            <a:ext cx="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257800" y="3124080"/>
            <a:ext cx="6858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2666880"/>
            <a:ext cx="9144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15000" y="2514600"/>
            <a:ext cx="12952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91320" y="21337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438280" y="2971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0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81952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1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34340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1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257800" y="3886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2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943600" y="3048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7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199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672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14400" y="2514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95280" y="3505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447920" y="4495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14600" y="533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148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410080" y="4648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248520" y="3733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ore1t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8660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0" y="1981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2133720"/>
            <a:ext cx="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838080" y="3733920"/>
            <a:ext cx="38124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1066680" y="5105160"/>
            <a:ext cx="38124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1905120" y="5790960"/>
            <a:ext cx="38088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59436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6172200" y="5105160"/>
            <a:ext cx="380880" cy="609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 flipV="1">
            <a:off x="7238520" y="4266720"/>
            <a:ext cx="76212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 flipV="1">
            <a:off x="8153280" y="3276720"/>
            <a:ext cx="4572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924680" y="1905120"/>
            <a:ext cx="45720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90720" y="1752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920" y="4114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5257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6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295280" y="5943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91120" y="6392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1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248520" y="5715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8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77240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3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15328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001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0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umptions (attention one factor model on previous pag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terminant non-zero is good as means no estimation proble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Field(2000,2005) criteria in SPSS factor:descriptive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MO &gt; 0.5 so sample size is adequat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artlett’s test statistically significant meaning statistically significant inter-item correlations so factor analysis is tenab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4648320" y="4038480"/>
            <a:ext cx="4038480" cy="16686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2011320" cy="6220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4191120" y="28954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505320" y="457200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4495680" y="5333760"/>
            <a:ext cx="327672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stimating loading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loadings which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 strong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 weak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reproduce as closely as possible inter-score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asure of assoc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estimated from inter-score correlations (or covarianc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operties of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straight line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t influenced by score sc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no causal inferen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 example: reliability theo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uch do questions on a questionnaire have in comm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nder scale:reliability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(overall measure of inter-item agreemen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ir et al(1998) suggest Cronbach’s alpha &gt;=0.70 are goo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can be misleading for large numbers of items (&gt;1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FACTOR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ing Beck and Age to predict mem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mory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Beck 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B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Age 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nbach’s alph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4648320" y="43434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Reliability coefficients of 0.70 and over suggest good reliability (Hair et al, 1998)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14600" y="4419720"/>
            <a:ext cx="10666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781680" y="3200400"/>
            <a:ext cx="53352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3352320" y="4724280"/>
            <a:ext cx="12193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6858000" y="4038120"/>
            <a:ext cx="15228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(2000) Discovering Statistics Using SPSS for Windows. London-Thousand Oaks - New Delhi:Sage suggests a Kaiser-Meyer-Olkin measure in SPSS:Factor Analysis:Descriptives (KMO) of &gt; 0.5 suggests appropriate sampling adequacy. Also in Field(2005) editi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rtlett test in SPSS:Factor Analysis:Descriptives needs to be statistically significant as it tests whether correlation matrix differs from one with zero inter-item correlations (identity matix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ther 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ir et al, 1998, 2005; Gorsuch, 1983) #volunteers = At least 5, preferably 10 x #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ltivariate Normality of scores (Mardia g2 measure of kurtosi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ran, West and Finch (1996) suggest also looking at univariate normality and have rules of thumb: Skews &gt; 2, &lt; -2; Kurtosis &gt; 7, &lt; -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variable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s related to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“by eye”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ailable in SPSS Factor (maximum likelihood) although principal components, though not technically factor models, can be used and interpreted as factor analysis mode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 &lt;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et of variables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Factor relationships modelled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mal Fit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pecialist models require specialist softwar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lor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idely available e.g. SPSS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firm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S (Stand-alone PC software; VERSION 6.1 OR ABOVE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WORK WITH WINDOWS XP); Handles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MOS (SPSS module); similar facilities to EQS, slightly easier to u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PLUS (Stand-alone PC softwar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S (SAS procedure); can’t handle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SREL (the very first package, tricky interfac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add-on module; SEM with polychoric correlations “robust” to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http://cran.r-project.org/src/contrib/Descriptions/sem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it Criteria avail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ee plo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igenvalues&gt;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gt;=80%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HI-SQUA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Indices (Bentl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ormation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s (fine tuning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earer view of factor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extreme loading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ous typ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/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n’t change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imax rotation on 5 variab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6122880" cy="47242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 flipH="1">
            <a:off x="3429000" y="4495680"/>
            <a:ext cx="2209680" cy="733680"/>
          </a:xfrm>
          <a:custGeom>
            <a:avLst/>
            <a:gdLst>
              <a:gd name="textAreaLeft" fmla="*/ 386640 w 2209680"/>
              <a:gd name="textAreaRight" fmla="*/ 1602000 w 22096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max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rtimax (General factor)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rect Oblimi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ma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EACh data (Manly et a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93 children (aged 6-16) from Melbourne, Australia had their attention levels tes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hypothesised attention typ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lective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witch Control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stained (5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1371600" y="251460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47920" y="4038480"/>
            <a:ext cx="175248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304812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2666880"/>
            <a:ext cx="198108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352680" y="3657240"/>
            <a:ext cx="190512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ECK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93" name=""/>
          <p:cNvCxnSpPr/>
          <p:nvPr/>
        </p:nvCxnSpPr>
        <p:spPr>
          <a:xfrm flipH="1" flipV="1" rot="10800000">
            <a:off x="1371600" y="2970720"/>
            <a:ext cx="76680" cy="1524600"/>
          </a:xfrm>
          <a:prstGeom prst="curvedConnector5">
            <a:avLst>
              <a:gd name="adj1" fmla="val -301415"/>
              <a:gd name="adj2" fmla="val 50000"/>
              <a:gd name="adj3" fmla="val -301415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 flipV="1">
            <a:off x="6324480" y="4038120"/>
            <a:ext cx="0" cy="1219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00600" y="5105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4191120" y="4038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16960" y="2590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90720" y="55627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eck score influences memory directly (A) and indirectly through age (B); age is mediating Beck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3581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ree Plot (TEACh data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1433520" y="1600200"/>
          <a:ext cx="627552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3520" y="1600200"/>
                    <a:ext cx="6275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 flipH="1">
            <a:off x="3657240" y="2590920"/>
            <a:ext cx="121932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876560" y="2362320"/>
            <a:ext cx="232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Look for the kink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oratory - Oblimin ro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 F1   F2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YCON        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P1N        +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ESWT1    +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PTOT         +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1T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F1    F2 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UALTASK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DATT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DE10              +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ALK1    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‘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’ DENOTES &gt;=0.3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3 Factor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"/>
          <p:cNvSpPr/>
          <p:nvPr/>
        </p:nvSpPr>
        <p:spPr>
          <a:xfrm>
            <a:off x="3962520" y="2057400"/>
            <a:ext cx="152388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447920" y="2209680"/>
            <a:ext cx="1523880" cy="838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553080" y="2133720"/>
            <a:ext cx="152424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38080" y="3505320"/>
            <a:ext cx="99072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505320" y="342900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0" y="350532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876920" y="342900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867280" y="3429000"/>
            <a:ext cx="8384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553080" y="4724280"/>
            <a:ext cx="12956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172200" y="3962520"/>
            <a:ext cx="10666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467480" y="4038480"/>
            <a:ext cx="11430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848720" y="327672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1523880" y="3048120"/>
            <a:ext cx="76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590920" y="3048120"/>
            <a:ext cx="3808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3733920" y="28195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29200" y="297180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153280" y="2743200"/>
            <a:ext cx="38124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6933960" y="2971800"/>
            <a:ext cx="1522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6400440" y="2743200"/>
            <a:ext cx="1522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315200" y="3048120"/>
            <a:ext cx="0" cy="1676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20120" y="304812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209680" y="3505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4290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87692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629400" y="4800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ore1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5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860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0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50532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572000" y="2895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3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91320" y="2666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629400" y="320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3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58000" y="4419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7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31520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8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30592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9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1295280" y="403848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26668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0384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5029200" y="38862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5562720" y="3886200"/>
            <a:ext cx="457200" cy="838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5715000" y="4419720"/>
            <a:ext cx="609480" cy="7617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7086600" y="525780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8153280" y="4572000"/>
            <a:ext cx="0" cy="914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8763120" y="3733560"/>
            <a:ext cx="0" cy="99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38080" y="4572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9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096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60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5812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41972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56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105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4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62940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8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772400" y="5486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30592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342" name=""/>
          <p:cNvCxnSpPr>
            <a:stCxn id="290" idx="0"/>
            <a:endCxn id="289" idx="0"/>
          </p:cNvCxnSpPr>
          <p:nvPr/>
        </p:nvCxnSpPr>
        <p:spPr>
          <a:xfrm flipH="1" flipV="1" rot="5400000">
            <a:off x="3390480" y="875520"/>
            <a:ext cx="153000" cy="2515320"/>
          </a:xfrm>
          <a:prstGeom prst="curvedConnector5">
            <a:avLst>
              <a:gd name="adj1" fmla="val 250000"/>
              <a:gd name="adj2" fmla="val 50000"/>
              <a:gd name="adj3" fmla="val 250000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43" name=""/>
          <p:cNvCxnSpPr>
            <a:stCxn id="289" idx="7"/>
            <a:endCxn id="291" idx="0"/>
          </p:cNvCxnSpPr>
          <p:nvPr/>
        </p:nvCxnSpPr>
        <p:spPr>
          <a:xfrm flipH="1" flipV="1" rot="5400000">
            <a:off x="6265440" y="1130040"/>
            <a:ext cx="46800" cy="2053080"/>
          </a:xfrm>
          <a:prstGeom prst="curvedConnector5">
            <a:avLst>
              <a:gd name="adj1" fmla="val 762015"/>
              <a:gd name="adj2" fmla="val 50000"/>
              <a:gd name="adj3" fmla="val 76201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44" name=""/>
          <p:cNvCxnSpPr>
            <a:stCxn id="290" idx="7"/>
            <a:endCxn id="291" idx="1"/>
          </p:cNvCxnSpPr>
          <p:nvPr/>
        </p:nvCxnSpPr>
        <p:spPr>
          <a:xfrm flipH="1" flipV="1" rot="5400000">
            <a:off x="4724280" y="279360"/>
            <a:ext cx="76680" cy="4029480"/>
          </a:xfrm>
          <a:prstGeom prst="curvedConnector5">
            <a:avLst>
              <a:gd name="adj1" fmla="val 562735"/>
              <a:gd name="adj2" fmla="val 50000"/>
              <a:gd name="adj3" fmla="val 56273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5" name=""/>
          <p:cNvSpPr/>
          <p:nvPr/>
        </p:nvSpPr>
        <p:spPr>
          <a:xfrm>
            <a:off x="1600200" y="2438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191120" y="2209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70572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stained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89548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62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867280" y="1447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58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197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34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095880" y="39625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849800" y="32767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essing model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some model fi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 &gt; 100 Chi-square gives false +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proposed as alternati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commonly fit indices us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FI - Comparative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FI (also called TLI) -  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NFI - Non-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indices are also recommended (Bentler, 2007) based on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ative Fit Index (CF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Peter Bentler (2007), “Mr EQS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&lt;= CFI &lt;=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FIs above 0.9 indicate a good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ome controversy over using cut-offs - Barrett (2007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fits of observed and the “null”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” model assumes no relationship between any pair of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vours parsimonious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fit using EQ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ODEL      CHI-SQUARE      P          CF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f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 factor     95.05 (27)   &lt;.001     .7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factor   33.33 (24)     .10       .9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ood Fits: p&gt;.05; CFIs &gt; 0.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A - 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363" name=""/>
          <p:cNvCxnSpPr/>
          <p:nvPr/>
        </p:nvCxnSpPr>
        <p:spPr>
          <a:xfrm flipH="1" rot="16200000">
            <a:off x="4419360" y="1692720"/>
            <a:ext cx="76680" cy="1731240"/>
          </a:xfrm>
          <a:prstGeom prst="curvedConnector5">
            <a:avLst>
              <a:gd name="adj1" fmla="val -608018"/>
              <a:gd name="adj2" fmla="val 50000"/>
              <a:gd name="adj3" fmla="val -60801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64" name="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8862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0.197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75248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85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52680" y="4419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25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886200" y="3809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7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9436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44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23880" y="2895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486400" y="2895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8954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724280" y="5486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B - un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44792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754280" y="4419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0.377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2004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14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886200" y="3733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22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8672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67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895480" y="5486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arning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different models (uncorrelated, correlated 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give identical fits to the data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ke sure there is theoretical motivation for specifying your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so: Schmid-Leiman transformation (see Wolff and Preising (2005)) transforms models with a second layer of facto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2195640" y="450864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5092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284720" y="5300640"/>
            <a:ext cx="1081080" cy="503280"/>
          </a:xfrm>
          <a:prstGeom prst="rightArrow">
            <a:avLst>
              <a:gd name="adj1" fmla="val 50000"/>
              <a:gd name="adj2" fmla="val 53702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796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1908000" y="6021360"/>
            <a:ext cx="43200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1979280" y="6308640"/>
            <a:ext cx="36036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042920" y="5805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042920" y="6237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04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88508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372360" y="6093000"/>
            <a:ext cx="57600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236000" y="6093000"/>
            <a:ext cx="64908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940360" y="5373720"/>
            <a:ext cx="647640" cy="719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516720" y="5516640"/>
            <a:ext cx="792000" cy="504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6732360" y="5589720"/>
            <a:ext cx="43164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380360" y="5589720"/>
            <a:ext cx="7128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6804000" y="5589720"/>
            <a:ext cx="144000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7596360" y="5589720"/>
            <a:ext cx="1079280" cy="503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042920" y="5516640"/>
            <a:ext cx="216000" cy="288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39640" y="5589720"/>
            <a:ext cx="360360" cy="792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556000" y="580536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1258560" y="5013360"/>
            <a:ext cx="865080" cy="21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843280" y="5445000"/>
            <a:ext cx="0" cy="360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484360" y="48690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9528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71640" y="609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94036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020000" y="5013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802800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185480" y="5805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116000" y="6165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372360" y="6093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164360" y="6093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umber of Factors for 20 TRAIT anxiety statemen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457200" y="1523880"/>
          <a:ext cx="822816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2281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3" name=""/>
          <p:cNvSpPr/>
          <p:nvPr/>
        </p:nvSpPr>
        <p:spPr>
          <a:xfrm>
            <a:off x="1371600" y="205740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257800" y="213372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1143000" y="2971800"/>
            <a:ext cx="3808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1676520" y="3124080"/>
            <a:ext cx="30456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048120" y="2438280"/>
            <a:ext cx="34290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3505320" y="2590920"/>
            <a:ext cx="17524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971800" y="2286000"/>
            <a:ext cx="52578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5105520" y="3048120"/>
            <a:ext cx="45720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2666520" y="2514600"/>
            <a:ext cx="259092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1066680" y="2362320"/>
            <a:ext cx="426744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971800" y="2362320"/>
            <a:ext cx="449568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1752120" y="2438280"/>
            <a:ext cx="35053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3200400"/>
            <a:ext cx="152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8954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200400" y="2743200"/>
            <a:ext cx="20574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124080" y="2590920"/>
            <a:ext cx="281952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36232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8580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6386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3244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0866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7724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87692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1240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5791320" y="327672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324480" y="3276720"/>
            <a:ext cx="38124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858000" y="3048120"/>
            <a:ext cx="53352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934320" y="2666880"/>
            <a:ext cx="11430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809880" y="4038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……</a:t>
            </a: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523880" y="2286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press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486400" y="2362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xiety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9144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18288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266688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34290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51814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59436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66294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739152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81532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82880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 TRAIT VARIANC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diating variable example (Beck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ting influence of Beck = T-T’ = AB; A and B regression ests;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cbu.cam.ac.uk/statswiki/FAQ/Sobel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2438280"/>
            <a:ext cx="17524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5909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71800" y="2895480"/>
            <a:ext cx="2133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4120" y="2438280"/>
            <a:ext cx="17524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86400" y="259092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487692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581280"/>
            <a:ext cx="17524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553080" y="4800600"/>
            <a:ext cx="175284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438280" y="4419360"/>
            <a:ext cx="91440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05320" y="5257800"/>
            <a:ext cx="228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86400" y="41148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86200" y="3733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ECK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81680" y="4952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9880" y="2286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91120" y="5410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’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14600" y="4267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672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xiety trait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73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 statements measuring TRAIT anxiety e.g. I am happy, I am nervo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ponses on a four point sca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lit randomly into two groups A and B of sizes 436 and 437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one and two factor model to 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using Data ‘A’ (N=436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w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ve 42 non-zero estimates from model fitted to Data A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0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40 path coefficien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 2 Factor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milarly 21 nonzero estimates in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 (ie 1/2 those of 2 fact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these to Data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eat using model estimates from Data ‘B’ on Data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4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4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ss validation strate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model with these 42 estimates to B; get out fit indic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rive model using Data ‘A’ (N=436) or ‘B’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model out on other data s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voids bias in using the same data to fit and assess a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1 factor model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 NFI        NNFI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794.61          &lt;.001        0.82       0.86       0.86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NFI 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38.58          &lt;.001       0.79        0.82       0.82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Factor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28.35     &lt;.001      0.88      0.92        0.92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13.98     &lt;.001      0.86      0.90        0.90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ther fit indices (including information criteria) are available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for non-Normal data which re-scale the chi-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which make sure each factor loading in the model is “pulling its weight” (Akaike’s information criterion=AIC, Schwarz bayesian criterion=B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Model chi-square – 2 x model df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akes into account number of loadings as well as model fi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Model chi-square – Log(Sample Size) x model df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or trait data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Trait questionnaire Data ‘A’ on Data ‘B’ (continu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 = 323.47      BIC = -374.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37.03  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BIC = -479.0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3 Factor Model :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	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AIC  = 128.02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-414.6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40.72      BIC = -320.3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ory model of data ‘A’ and ‘B’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490" name=""/>
          <p:cNvGraphicFramePr/>
          <p:nvPr/>
        </p:nvGraphicFramePr>
        <p:xfrm>
          <a:off x="457200" y="1784520"/>
          <a:ext cx="8229600" cy="43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84520"/>
                    <a:ext cx="8229600" cy="43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2" name=""/>
          <p:cNvSpPr/>
          <p:nvPr/>
        </p:nvSpPr>
        <p:spPr>
          <a:xfrm>
            <a:off x="3119400" y="2057400"/>
            <a:ext cx="3457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ilar profiles; # Factors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ee plot:one factor BU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ree eigenvalues over 1;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ory:2, maybe 3 factor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clus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uncorrelated Factor model is a slightly better fit than One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regardless of whether ‘A’ or ‘B’ is used to estimate or fit the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But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sing rules of thumb: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factors &lt; 60% vari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FI index for 2 factor model &lt; 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factor model may be better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supports 2 factors, BIC support 3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doesn’t make sens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sychologically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point fitting i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rdinal data/Non-normal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led scores of type: Never, Some, a lot, Alw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authors suggest the use of special correlations, polychoric correlations rather than Pearson correlations for ordinal scaled variables and using ULS estimat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correlations can be used as inputs to a factor analysis instead of the raw data (eg using syntax in SPSS); Additionally, Least Squares estimates have been recommended to estimate factor loadings (Lee-Poon Bentler, 1995)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ecialist free software available for computing these See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en.wikipedia.org/wiki/Polychoric_correlat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or can use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forms of estimators for obtaining factor loadings can also be used in more specialist software eg ML, ROBUST in EQ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Feature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llips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tang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score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4800600" y="1905120"/>
            <a:ext cx="2057400" cy="6094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00600" y="3048120"/>
            <a:ext cx="236232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olychoric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many authors for ordinal categories (for questionnaires) as inputs to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polychoric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includes a spreadsheet to evaluate tetrachoric correlations which are the special case of polychoric correlations for dichotomous 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polychorics to EFA models using SAS, R and SPSS (convoluted)    SPSS correlation input: Kinnear &amp; Gray (1999) and later 2009 editi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using with CFA models need specialist software e.g. EQ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ombining the two variables: Thanks to Joao Maroco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8572680" y="0"/>
            <a:ext cx="57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AB470-2051-45BE-8B7E-FAEE5ADC004E}" type="slidenum">
              <a:rPr b="0" lang="pt-PT" sz="1200" spc="-1" strike="noStrike">
                <a:solidFill>
                  <a:srgbClr val="898989"/>
                </a:solidFill>
                <a:latin typeface="HelveticaNeueLT Std"/>
              </a:rPr>
              <a:t>&lt;number&gt;</a:t>
            </a:fld>
            <a:endParaRPr b="0" lang="en-US" sz="1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0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02" name="Straight Connector 51"/>
          <p:cNvSpPr/>
          <p:nvPr/>
        </p:nvSpPr>
        <p:spPr>
          <a:xfrm flipV="1">
            <a:off x="3214800" y="2785680"/>
            <a:ext cx="0" cy="21430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03" name="Straight Connector 52"/>
          <p:cNvSpPr/>
          <p:nvPr/>
        </p:nvSpPr>
        <p:spPr>
          <a:xfrm>
            <a:off x="3214800" y="4929120"/>
            <a:ext cx="227628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504" name="Picture 3" descr=""/>
          <p:cNvPicPr/>
          <p:nvPr/>
        </p:nvPicPr>
        <p:blipFill>
          <a:blip r:embed="rId1"/>
          <a:stretch/>
        </p:blipFill>
        <p:spPr>
          <a:xfrm>
            <a:off x="3279600" y="4950000"/>
            <a:ext cx="1872000" cy="798480"/>
          </a:xfrm>
          <a:prstGeom prst="rect">
            <a:avLst/>
          </a:prstGeom>
          <a:ln w="0">
            <a:noFill/>
          </a:ln>
        </p:spPr>
      </p:pic>
      <p:sp>
        <p:nvSpPr>
          <p:cNvPr id="505" name="Straight Connector 59"/>
          <p:cNvSpPr/>
          <p:nvPr/>
        </p:nvSpPr>
        <p:spPr>
          <a:xfrm flipV="1">
            <a:off x="3828960" y="3014280"/>
            <a:ext cx="0" cy="2879640"/>
          </a:xfrm>
          <a:prstGeom prst="line">
            <a:avLst/>
          </a:prstGeom>
          <a:ln w="648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06" name="Straight Connector 60"/>
          <p:cNvSpPr/>
          <p:nvPr/>
        </p:nvSpPr>
        <p:spPr>
          <a:xfrm flipV="1">
            <a:off x="4172040" y="3014280"/>
            <a:ext cx="0" cy="2879640"/>
          </a:xfrm>
          <a:prstGeom prst="line">
            <a:avLst/>
          </a:prstGeom>
          <a:ln w="648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07" name="Straight Connector 61"/>
          <p:cNvSpPr/>
          <p:nvPr/>
        </p:nvSpPr>
        <p:spPr>
          <a:xfrm flipV="1">
            <a:off x="4529160" y="3014280"/>
            <a:ext cx="0" cy="2879640"/>
          </a:xfrm>
          <a:prstGeom prst="line">
            <a:avLst/>
          </a:prstGeom>
          <a:ln w="648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08" name="Straight Connector 62"/>
          <p:cNvSpPr/>
          <p:nvPr/>
        </p:nvSpPr>
        <p:spPr>
          <a:xfrm flipV="1">
            <a:off x="4829040" y="3014280"/>
            <a:ext cx="0" cy="2879640"/>
          </a:xfrm>
          <a:prstGeom prst="line">
            <a:avLst/>
          </a:prstGeom>
          <a:ln w="648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09" name="Rectangle 65"/>
          <p:cNvSpPr/>
          <p:nvPr/>
        </p:nvSpPr>
        <p:spPr>
          <a:xfrm flipH="1" rot="16200000">
            <a:off x="1662840" y="3116880"/>
            <a:ext cx="357120" cy="409680"/>
          </a:xfrm>
          <a:prstGeom prst="rect">
            <a:avLst/>
          </a:prstGeom>
          <a:solidFill>
            <a:srgbClr val="632523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10" name="Rectangle 66"/>
          <p:cNvSpPr/>
          <p:nvPr/>
        </p:nvSpPr>
        <p:spPr>
          <a:xfrm flipH="1" rot="16200000">
            <a:off x="1614600" y="3284280"/>
            <a:ext cx="214560" cy="646200"/>
          </a:xfrm>
          <a:prstGeom prst="rect">
            <a:avLst/>
          </a:prstGeom>
          <a:solidFill>
            <a:srgbClr val="953735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11" name="Rectangle 67"/>
          <p:cNvSpPr/>
          <p:nvPr/>
        </p:nvSpPr>
        <p:spPr>
          <a:xfrm flipH="1" rot="16200000">
            <a:off x="1486440" y="3370320"/>
            <a:ext cx="214200" cy="903240"/>
          </a:xfrm>
          <a:prstGeom prst="rect">
            <a:avLst/>
          </a:prstGeom>
          <a:solidFill>
            <a:srgbClr val="d99694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12" name="Rectangle 68"/>
          <p:cNvSpPr/>
          <p:nvPr/>
        </p:nvSpPr>
        <p:spPr>
          <a:xfrm flipH="1" rot="16200000">
            <a:off x="1614960" y="3713040"/>
            <a:ext cx="214200" cy="646200"/>
          </a:xfrm>
          <a:prstGeom prst="rect">
            <a:avLst/>
          </a:prstGeom>
          <a:solidFill>
            <a:srgbClr val="e6b9b8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13" name="Rectangle 69"/>
          <p:cNvSpPr/>
          <p:nvPr/>
        </p:nvSpPr>
        <p:spPr>
          <a:xfrm rot="16200000">
            <a:off x="1734120" y="4045680"/>
            <a:ext cx="214560" cy="409680"/>
          </a:xfrm>
          <a:prstGeom prst="rect">
            <a:avLst/>
          </a:prstGeom>
          <a:solidFill>
            <a:srgbClr val="f2dcdb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514" name="Picture 3" descr=""/>
          <p:cNvPicPr/>
          <p:nvPr/>
        </p:nvPicPr>
        <p:blipFill>
          <a:blip r:embed="rId2"/>
          <a:stretch/>
        </p:blipFill>
        <p:spPr>
          <a:xfrm>
            <a:off x="2389320" y="2992320"/>
            <a:ext cx="798480" cy="1871640"/>
          </a:xfrm>
          <a:prstGeom prst="rect">
            <a:avLst/>
          </a:prstGeom>
          <a:ln w="0">
            <a:noFill/>
          </a:ln>
        </p:spPr>
      </p:pic>
      <p:sp>
        <p:nvSpPr>
          <p:cNvPr id="515" name="Straight Connector 73"/>
          <p:cNvSpPr/>
          <p:nvPr/>
        </p:nvSpPr>
        <p:spPr>
          <a:xfrm flipV="1">
            <a:off x="2071800" y="2714400"/>
            <a:ext cx="0" cy="2143080"/>
          </a:xfrm>
          <a:prstGeom prst="line">
            <a:avLst/>
          </a:prstGeom>
          <a:ln w="9360">
            <a:solidFill>
              <a:srgbClr val="4a7eb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16" name="Straight Connector 74"/>
          <p:cNvSpPr/>
          <p:nvPr/>
        </p:nvSpPr>
        <p:spPr>
          <a:xfrm>
            <a:off x="3286080" y="5867280"/>
            <a:ext cx="2276640" cy="0"/>
          </a:xfrm>
          <a:prstGeom prst="line">
            <a:avLst/>
          </a:prstGeom>
          <a:ln w="9360">
            <a:solidFill>
              <a:srgbClr val="4a7eb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17" name="TextBox 75"/>
          <p:cNvSpPr/>
          <p:nvPr/>
        </p:nvSpPr>
        <p:spPr>
          <a:xfrm>
            <a:off x="5287320" y="583560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18" name="TextBox 76"/>
          <p:cNvSpPr/>
          <p:nvPr/>
        </p:nvSpPr>
        <p:spPr>
          <a:xfrm rot="16200000">
            <a:off x="1782720" y="268308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19" name="TextBox 77"/>
          <p:cNvSpPr/>
          <p:nvPr/>
        </p:nvSpPr>
        <p:spPr>
          <a:xfrm>
            <a:off x="2929680" y="272412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20" name="TextBox 78"/>
          <p:cNvSpPr/>
          <p:nvPr/>
        </p:nvSpPr>
        <p:spPr>
          <a:xfrm>
            <a:off x="5255280" y="490680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21" name="Straight Connector 79"/>
          <p:cNvSpPr/>
          <p:nvPr/>
        </p:nvSpPr>
        <p:spPr>
          <a:xfrm>
            <a:off x="2009880" y="4143240"/>
            <a:ext cx="2990880" cy="0"/>
          </a:xfrm>
          <a:prstGeom prst="line">
            <a:avLst/>
          </a:prstGeom>
          <a:ln w="648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22" name="Straight Connector 80"/>
          <p:cNvSpPr/>
          <p:nvPr/>
        </p:nvSpPr>
        <p:spPr>
          <a:xfrm>
            <a:off x="2000160" y="3929040"/>
            <a:ext cx="2990880" cy="0"/>
          </a:xfrm>
          <a:prstGeom prst="line">
            <a:avLst/>
          </a:prstGeom>
          <a:ln w="648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23" name="Straight Connector 81"/>
          <p:cNvSpPr/>
          <p:nvPr/>
        </p:nvSpPr>
        <p:spPr>
          <a:xfrm>
            <a:off x="2000160" y="3714840"/>
            <a:ext cx="2990880" cy="0"/>
          </a:xfrm>
          <a:prstGeom prst="line">
            <a:avLst/>
          </a:prstGeom>
          <a:ln w="648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24" name="Straight Connector 82"/>
          <p:cNvSpPr/>
          <p:nvPr/>
        </p:nvSpPr>
        <p:spPr>
          <a:xfrm>
            <a:off x="2000160" y="3500280"/>
            <a:ext cx="2990880" cy="0"/>
          </a:xfrm>
          <a:prstGeom prst="line">
            <a:avLst/>
          </a:prstGeom>
          <a:ln w="648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25" name="Straight Connector 83"/>
          <p:cNvSpPr/>
          <p:nvPr/>
        </p:nvSpPr>
        <p:spPr>
          <a:xfrm flipV="1">
            <a:off x="3286080" y="2928600"/>
            <a:ext cx="1857600" cy="1857240"/>
          </a:xfrm>
          <a:prstGeom prst="line">
            <a:avLst/>
          </a:prstGeom>
          <a:ln w="255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26" name="Oval 84"/>
          <p:cNvSpPr/>
          <p:nvPr/>
        </p:nvSpPr>
        <p:spPr>
          <a:xfrm rot="2677200">
            <a:off x="3819240" y="2855880"/>
            <a:ext cx="785880" cy="2016000"/>
          </a:xfrm>
          <a:prstGeom prst="ellipse">
            <a:avLst/>
          </a:prstGeom>
          <a:solidFill>
            <a:srgbClr val="7f7f7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27" name="TextBox 85"/>
          <p:cNvSpPr/>
          <p:nvPr/>
        </p:nvSpPr>
        <p:spPr>
          <a:xfrm>
            <a:off x="5112360" y="2643120"/>
            <a:ext cx="38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28" name="TextBox 86"/>
          <p:cNvSpPr/>
          <p:nvPr/>
        </p:nvSpPr>
        <p:spPr>
          <a:xfrm>
            <a:off x="36547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1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29" name="TextBox 87"/>
          <p:cNvSpPr/>
          <p:nvPr/>
        </p:nvSpPr>
        <p:spPr>
          <a:xfrm>
            <a:off x="39564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2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30" name="TextBox 88"/>
          <p:cNvSpPr/>
          <p:nvPr/>
        </p:nvSpPr>
        <p:spPr>
          <a:xfrm>
            <a:off x="43693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3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31" name="TextBox 89"/>
          <p:cNvSpPr/>
          <p:nvPr/>
        </p:nvSpPr>
        <p:spPr>
          <a:xfrm>
            <a:off x="46548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4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32" name="TextBox 90"/>
          <p:cNvSpPr/>
          <p:nvPr/>
        </p:nvSpPr>
        <p:spPr>
          <a:xfrm>
            <a:off x="4940640" y="33577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1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33" name="TextBox 91"/>
          <p:cNvSpPr/>
          <p:nvPr/>
        </p:nvSpPr>
        <p:spPr>
          <a:xfrm>
            <a:off x="4954320" y="35719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2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34" name="TextBox 92"/>
          <p:cNvSpPr/>
          <p:nvPr/>
        </p:nvSpPr>
        <p:spPr>
          <a:xfrm>
            <a:off x="4954320" y="37814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3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35" name="TextBox 93"/>
          <p:cNvSpPr/>
          <p:nvPr/>
        </p:nvSpPr>
        <p:spPr>
          <a:xfrm>
            <a:off x="4954320" y="40100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4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36" name="TextBox 94"/>
          <p:cNvSpPr/>
          <p:nvPr/>
        </p:nvSpPr>
        <p:spPr>
          <a:xfrm>
            <a:off x="6000840" y="2214720"/>
            <a:ext cx="292896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The </a:t>
            </a:r>
            <a:r>
              <a:rPr b="1" lang="en-US" sz="1600" spc="-1" strike="noStrike">
                <a:solidFill>
                  <a:srgbClr val="9a044b"/>
                </a:solidFill>
                <a:latin typeface="HelveticaNeueLT Pro 45 Lt"/>
              </a:rPr>
              <a:t>Polychoric Correlation  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(</a:t>
            </a: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) is the product-moment correlation between the two latent normally distributed variables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537" name="Straight Arrow Connector 96"/>
          <p:cNvCxnSpPr>
            <a:stCxn id="536" idx="1"/>
            <a:endCxn id="527" idx="3"/>
          </p:cNvCxnSpPr>
          <p:nvPr/>
        </p:nvCxnSpPr>
        <p:spPr>
          <a:xfrm flipH="1" flipV="1">
            <a:off x="5539680" y="2812680"/>
            <a:ext cx="461160" cy="64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8" name="Rectangle 106"/>
          <p:cNvSpPr/>
          <p:nvPr/>
        </p:nvSpPr>
        <p:spPr>
          <a:xfrm flipH="1">
            <a:off x="4814280" y="5900760"/>
            <a:ext cx="214200" cy="409680"/>
          </a:xfrm>
          <a:prstGeom prst="rect">
            <a:avLst/>
          </a:prstGeom>
          <a:solidFill>
            <a:srgbClr val="215968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39" name="Rectangle 107"/>
          <p:cNvSpPr/>
          <p:nvPr/>
        </p:nvSpPr>
        <p:spPr>
          <a:xfrm flipH="1">
            <a:off x="4529160" y="5900760"/>
            <a:ext cx="285840" cy="644400"/>
          </a:xfrm>
          <a:prstGeom prst="rect">
            <a:avLst/>
          </a:prstGeom>
          <a:solidFill>
            <a:srgbClr val="31859c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40" name="Rectangle 108"/>
          <p:cNvSpPr/>
          <p:nvPr/>
        </p:nvSpPr>
        <p:spPr>
          <a:xfrm flipH="1">
            <a:off x="4172040" y="5900760"/>
            <a:ext cx="357120" cy="903240"/>
          </a:xfrm>
          <a:prstGeom prst="rect">
            <a:avLst/>
          </a:prstGeom>
          <a:solidFill>
            <a:srgbClr val="93cddd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41" name="Rectangle 109"/>
          <p:cNvSpPr/>
          <p:nvPr/>
        </p:nvSpPr>
        <p:spPr>
          <a:xfrm flipH="1">
            <a:off x="3814920" y="5900760"/>
            <a:ext cx="357120" cy="644400"/>
          </a:xfrm>
          <a:prstGeom prst="rect">
            <a:avLst/>
          </a:prstGeom>
          <a:solidFill>
            <a:srgbClr val="b7dee8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42" name="Rectangle 110"/>
          <p:cNvSpPr/>
          <p:nvPr/>
        </p:nvSpPr>
        <p:spPr>
          <a:xfrm>
            <a:off x="3286080" y="5900760"/>
            <a:ext cx="528840" cy="409680"/>
          </a:xfrm>
          <a:prstGeom prst="rect">
            <a:avLst/>
          </a:prstGeom>
          <a:solidFill>
            <a:srgbClr val="dbeef4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hort forms of questionnai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termine which questions “best” predict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scores on each hypothesised anxiety and depression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will compute factor sco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 items on factor scores using a forward stepwise regression proced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items are the most useful in looking at depression and anxiety?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CA vs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is useful for finding variable clust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incipal Components Analysis (PCA) is an exploratory technique which is useful for finding how many factors “best” account for correlations between the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ults are usually very simil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an combine regression and Factors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2268360" y="2060640"/>
            <a:ext cx="1366920" cy="64764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1908000" y="2781360"/>
            <a:ext cx="503280" cy="1008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203640" y="2708280"/>
            <a:ext cx="216000" cy="1152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39640" y="3789360"/>
            <a:ext cx="194472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987640" y="3860640"/>
            <a:ext cx="187164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835280" y="4437000"/>
            <a:ext cx="720720" cy="1079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3492000" y="4508640"/>
            <a:ext cx="71640" cy="792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148360" y="3860640"/>
            <a:ext cx="1728720" cy="64800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4356000" y="4581360"/>
            <a:ext cx="1656000" cy="863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771640" y="5300640"/>
            <a:ext cx="2087640" cy="1008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388600" y="200196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IQ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84360" y="3933720"/>
            <a:ext cx="172692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059280" y="3860640"/>
            <a:ext cx="194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203640" y="4005360"/>
            <a:ext cx="143964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292720" y="4005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203640" y="5661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USIC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859280" y="1989000"/>
            <a:ext cx="388944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Use residuals from regressions involving IQ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avid Bonifa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lor McCarth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m Man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ndy &amp; Dor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n-Mari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f: Hair JF, Black B, Bain B, Anderson RE, Tatham RL (200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CBSU libra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47ed"/>
                </a:solidFill>
                <a:latin typeface="Verdana"/>
              </a:rPr>
              <a:t>Next week 11a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47ed"/>
                </a:solidFill>
                <a:latin typeface="Verdana"/>
              </a:rPr>
              <a:t>Ian Nimmo-Sm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47ed"/>
                </a:solidFill>
                <a:latin typeface="Verdana"/>
              </a:rPr>
              <a:t>Post-hoc tests, multiple comparisons,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47ed"/>
                </a:solidFill>
                <a:latin typeface="Verdana"/>
              </a:rPr>
              <a:t>contrasts and handling interac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ultivariate Data Analysis Sixth Edi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 Feature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aight arrow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ading coefficients (factors 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s (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ves with arrows on each en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residual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5867280" y="220968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128" name=""/>
          <p:cNvCxnSpPr/>
          <p:nvPr/>
        </p:nvCxnSpPr>
        <p:spPr>
          <a:xfrm flipH="1" flipV="1" rot="5400000">
            <a:off x="6413040" y="2653920"/>
            <a:ext cx="46800" cy="2053080"/>
          </a:xfrm>
          <a:prstGeom prst="curvedConnector5">
            <a:avLst>
              <a:gd name="adj1" fmla="val 1213178"/>
              <a:gd name="adj2" fmla="val 50000"/>
              <a:gd name="adj3" fmla="val 1213178"/>
            </a:avLst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Path Coefficients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(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nect predictors to respons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can b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ndardiz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gres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oeffic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uncorrelated with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2 regressio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using 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illiams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o 2 regress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fact path analysis software can compare any pair of correlations and assess fit of sets of regression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PSS &amp; SAS CALIS syntax: compares zero-order correlation pairs from same sample See: http://www.utexas.edu/its/rc/answers/general/gen28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partial r - same samp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Regression prediction of suicide rate using prestige and education (revisited)  on sample of 36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 coefficients, B for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standardise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duc &amp; Prestig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Prestige adjusted for Educ = 10.76  (B);  Partial r = 0.4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Educ adjusted for Prestige = -11.01 (B); Partial r =- 0.4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(t(33) &lt; -3.20) = 0.003; (two-tailed)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: </a:t>
            </a:r>
            <a:r>
              <a:rPr b="0" lang="en-GB" sz="18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) = 8.29, p=0.004 (two-tailed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uctural equations can also compare partial r with no variables in common e.g. r(XY|Z) and r(AB|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1:49:31Z</dcterms:created>
  <dc:creator>peter</dc:creator>
  <dc:description/>
  <dc:language>en-US</dc:language>
  <cp:lastModifiedBy>Administrator</cp:lastModifiedBy>
  <dcterms:modified xsi:type="dcterms:W3CDTF">2009-11-24T11:50:01Z</dcterms:modified>
  <cp:revision>296</cp:revision>
  <dc:subject/>
  <dc:title>No Slide Title</dc:title>
</cp:coreProperties>
</file>